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dt" idx="37"/>
          </p:nvPr>
        </p:nvSpPr>
        <p:spPr>
          <a:xfrm>
            <a:off x="39366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480" rIns="87480" tIns="43920" bIns="439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ftr" idx="38"/>
          </p:nvPr>
        </p:nvSpPr>
        <p:spPr>
          <a:xfrm>
            <a:off x="-3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 type="sldNum" idx="39"/>
          </p:nvPr>
        </p:nvSpPr>
        <p:spPr>
          <a:xfrm>
            <a:off x="393660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5757-8DAC-40E6-9F12-4E50D410F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C323-3424-4542-BB4C-E8B169A131E0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C9E2-9BEF-4429-AC65-A6E9213CF787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6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9B19-4EF5-4158-8B4C-FA89A3A18FC2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EF32-9582-4FCD-B22F-D18FB506BD15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FF53-06BE-47BA-AEB1-C2B038C768FD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3D41-280C-4B24-B2D8-F112AC1CF33F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225D-5E9B-4ECB-BBD0-F2DF68639E4A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AA70-908A-486B-8923-F3109E5A39C0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BC0A-578B-4699-8D6F-D7E2006E110E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3748-33BF-416E-95AE-2E6A95C8BA07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A792-D238-4EFB-B851-4233F334B317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EA73-9A2E-419B-BC0D-04327661CDC8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89D5-61B3-46CC-8216-23332F70063E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E701-D86A-48F7-B729-BD69DF77013B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842E-3A21-4A10-AA24-880A256E19C5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7C7C-53C0-4EED-882A-F8A1ADDC7FE8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6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22D1-A745-4B42-8909-050227B6D32B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6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1ABF-A6D6-4121-81AF-C471A62486BE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289C-B83C-474C-9BB1-DEEF35C2CF47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C314-1A38-4269-AED6-34885D7CB78F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EA4C-C148-47CA-BD2A-2722D948D656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8BBD-4243-4964-A0E2-4F6F0AEA471E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6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936960" y="8774280"/>
            <a:ext cx="3011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9AA8-554D-4415-B1A0-F8280FD9A0B7}" type="slidenum"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6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A842-E0E0-4506-A9E5-5B499BBA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76E8-7943-4CFD-B24C-2BB70FB4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2AC38-5354-401B-B205-DDBB414F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E392E-B2C0-42D1-9C6E-5489EECC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03C6E-88D2-4205-B842-D7ED0E11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01285-3831-4B3C-ADA3-41191FEE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2212E-0D92-4A0F-AEC8-714D780E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1B347-A634-4E35-99E3-17CF1CBE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F3C44-9FE2-4572-85C2-1A3AED6D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CAC66-12AB-49DF-B742-03AA2EFC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B7384-D45E-43E8-A3E5-4284BA70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EF257-608B-4719-B71E-672B6AE8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2F98-3678-45F1-A5F8-28535594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23C88-6B08-4963-AE0B-029318D2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D6208-3DD2-429B-8960-CF9B35CF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EA7DB-B27A-4552-B73B-68278B5A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D6C63-B21C-4B1F-AA86-5B173133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DFF68-40E5-42A9-B369-218B611C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D3037-5A01-4C34-8689-517CE1F7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A3B61-70CD-41E7-90C8-4DF8DDF2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E59BE-3379-4354-8D1A-E5D9AA88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211C7-44C1-4839-B10C-3C0DE078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5466A-5F66-4D08-9BB3-E7C4E91B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BBB6-B02C-4048-AAA7-BBD1F518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A7E9B-EDD0-48AB-A18A-2D896B27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AD03D-2365-4C96-82BE-E1D779DB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05371-D680-4036-8E4B-F0D9D272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400A1-0C98-4B14-B05E-16CC7C1C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E5C35-FE67-4C26-9340-3C85FC33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38DE8-3DA8-4D73-AC33-3255449E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91B38-FF98-4FFC-9532-393BCC57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D79A3-5D68-4480-9C99-48D9456B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2849F-4B15-4512-8D79-79C3CE44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6E286-4A24-43A8-9C8A-019BA09D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F7DB-FF20-4289-A1BA-5A9DDBF4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C56BC-25E6-4B1C-BF3E-94547C25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A0A1E-1CB9-448A-BF4C-3A62D6F7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9E5A0-B64E-4CD0-A531-7760842A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2E604-8D43-4286-BFC8-D3391D62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F6936-16F8-46F3-80F1-3BCEB73A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40EEF-5D89-4DAE-8BE9-B566072D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C5CEE-1681-4307-8C8C-63C3BF1C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72CAE-8CF2-4BCB-AEFA-918C1E32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D0591-1322-4970-B0DF-FA6E3EBB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657DA-79D1-4410-B3E9-04FB3BB3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8178-B456-4AD6-A5C0-8E1398C2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30E5E-7F89-4AF9-84C5-D69DCE33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FB1D3-78FB-4A91-B7E4-FB39E5BD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26691-235C-4C94-8E6C-D3FD4105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3F57F-4986-468D-87D0-53814272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8391C-D04D-4118-B6BF-CF4DC827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4457-417B-4704-B7D7-F214F6F2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89CE-AB84-4D00-A118-6406EE6A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A761-4747-42F0-BD54-D686CF55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1D41-C279-492E-B5E4-49686293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FA65-13F2-4F5C-9C97-33D1E027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4A86-4ED5-4EC6-8A17-9604D778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10DA-DE88-4807-8BF5-BC68438B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14AD-CB54-4F1B-8AA3-39B6EED3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B5B0-5E67-4610-B94B-D6B13A09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F584-123F-4671-976C-5A736D0F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9BAE-274F-4073-9054-085EF9C9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008B0-6383-417D-A408-C4593763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1258E-AA2F-41A6-B259-E0E49A0C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4B167-D2A8-46B2-A5F3-0DDE80FA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2BD6F-8ECD-4948-A340-3BBE7153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2479C-4C7A-4F9F-B548-9A1556BA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AC28-25D0-4F92-AD7E-DDAB91EC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74D71-DF45-4769-A293-6A1E4AE2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424F5-36D4-4EA4-B404-05EB7F32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613BC-EE81-45C7-93FD-835172AB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81213-A49E-45D1-9BE5-1A0AF5DC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C93E1-77B1-4FFE-B250-A2C5E7A3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0875B-7FC2-4389-84F8-94F366DD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6EA9F-0EDA-45BD-8DAF-D5EAAB42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D53F1-E1BE-4DC0-9F84-BA944D20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56EE3-5A33-4EC0-BAB7-96C3EF7F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B54B4-E9F0-41FA-A65D-98FC1FC9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8BA4-4DA1-4473-A4AF-81670CD0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A54A1-D436-4253-A5BF-F203A14F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2CEB3-6E28-4E5A-B480-8B3DEFDB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D6612-F525-4E44-8813-05189EF3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65146-1327-4C5D-A9E8-D45787A6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A16CD-6D54-4D30-8CF3-35AE9A32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54EF9-EBD5-4649-BFBC-976AB26D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3EC59-3330-44C1-BE83-68C18A9E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D5B4D-521C-402A-B3A4-411CE830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4303D-7BAC-4417-BE3C-B03E5EA6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F7CCC-414B-4867-ABAD-5888F95A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C6AB-3193-46E3-B28F-CFE20D22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98097-0736-4382-9E32-E73E061C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39662-01F0-42E1-B722-A76B3B2C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77DE3-57F2-4CEA-9E70-3F890DCE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4B0E4-E8F4-4229-93DC-9006E829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F8F80-E6A7-43FE-9A5B-5B74D50E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764F0-A6B1-4FC6-8E70-6864B2A6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37176-5552-45AB-9714-C2E03317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563B6-0ADF-4752-96C8-EABA0491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30BA3-51EB-46D8-AF0D-38814E7B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B713E-0C30-427F-97D1-A9DF1D29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0C54-F521-42DD-8326-B0C5649F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78E8C-A75D-4C67-8F4E-3A3FAD08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DD724-1B3E-4F20-B657-C2F9A5A9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080A0-9150-4EC6-93C8-829E37BC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90E3C-58A0-406D-B5DA-B6CFC907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E3C4B-3467-4799-916D-18A737E3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E150E-59BB-42DD-B967-EC0FB749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FB110-82C1-4F2A-80B4-0DDCB0BE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05778-6822-42D4-BA5C-D9670C7A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EA944-6F03-4D8D-BE91-D526EE3B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45F65-0F47-4FDA-9943-D6D5AE53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2DD5-8E62-4C43-9D79-7AF173D0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3FCA4-EF3B-4DEF-B89D-14C728BA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71581-0712-4635-B8C9-D809C574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957DA-0E31-4FE3-A97F-E55FA0A0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83E87-B5F6-498F-9E08-D4BECC30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A3678-B493-4CC9-B2DD-7E68ECFC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F7874-B98B-4AED-8DE4-3A4BA614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9184D-490A-40DC-BC0B-3394B2FA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53346-8340-4AA0-A6E4-3686DB6C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DAC9E-91D1-492F-B0BB-469A7543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DD38B-6825-481C-BA45-BD72AFEF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F048-7B88-466A-95F1-1C17F2EE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10DCB-155C-44D1-ABA9-38A40A5D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18EF1-BECD-45EB-9947-3F63E21F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2E2A5-1B8A-49E8-A61E-974113C8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DC0B7-7B6B-49FC-9F00-1C44960D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91760-960F-4F24-88EC-D406760E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F6010-DD28-4623-826B-5E1F6389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EB2E5-73CA-49E5-B67C-9F2DFAF6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AA49D-F978-408A-A823-C756F622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D76AF-1D4C-4256-AE80-53DCE907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F2818-2B72-42DE-AB71-9864BDEA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D458-9FBB-4F63-9E24-785013C9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CD229-C6A4-4AAA-B55D-0363CF8C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03011-4177-43B8-8E5D-CA2AE86F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BBEE5-040C-4820-8F9B-93B714E4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77126-B6E5-4CC7-B74F-5224FAD9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79006-1CB3-4B66-AF78-0E7ED289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6AFEA-A18A-45C3-A9E3-C686A2A3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17A4A-8BB8-4E31-B31C-23389B56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6199B-D694-404D-9492-DC622584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3D51A-9521-4DB5-88DB-B3C54B24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52AFC-E1F4-4781-8F24-619C1A76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4572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53400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73520"/>
            <a:ext cx="28958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ponsive        Class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534000"/>
            <a:ext cx="1905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BE3A-60F7-4D3B-9FC3-0FA30A831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suncolor"/>
          <p:cNvPicPr/>
          <p:nvPr/>
        </p:nvPicPr>
        <p:blipFill>
          <a:blip r:embed="rId3"/>
          <a:stretch/>
        </p:blipFill>
        <p:spPr>
          <a:xfrm>
            <a:off x="4419720" y="6477120"/>
            <a:ext cx="35244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685800" y="653400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473520"/>
            <a:ext cx="28958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ponsive        Class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781680" y="6534000"/>
            <a:ext cx="1905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1C79-56A7-4F8E-86AE-5960BF59B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685800" y="653400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473520"/>
            <a:ext cx="28958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ponsive        Class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781680" y="6534000"/>
            <a:ext cx="1905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8673-2F7F-4E8A-8244-38B743936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685800" y="653400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473520"/>
            <a:ext cx="28958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ponsive        Class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781680" y="6534000"/>
            <a:ext cx="1905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78F9-F88D-478B-AB9C-97BADF7A3674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suncolor"/>
          <p:cNvPicPr/>
          <p:nvPr/>
        </p:nvPicPr>
        <p:blipFill>
          <a:blip r:embed="rId3"/>
          <a:stretch/>
        </p:blipFill>
        <p:spPr>
          <a:xfrm>
            <a:off x="3962520" y="762120"/>
            <a:ext cx="14112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Line 8"/>
          <p:cNvSpPr/>
          <p:nvPr/>
        </p:nvSpPr>
        <p:spPr>
          <a:xfrm>
            <a:off x="0" y="76320"/>
            <a:ext cx="9144000" cy="0"/>
          </a:xfrm>
          <a:prstGeom prst="line">
            <a:avLst/>
          </a:prstGeom>
          <a:ln w="4572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NEFC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814D-B927-4AEC-AE9C-22BCDE8CB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85800" y="653400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473520"/>
            <a:ext cx="28958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ponsive        Class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680" y="6534000"/>
            <a:ext cx="1905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E4C0-FB1B-4B93-BE0A-C49490D5B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685800" y="653400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473520"/>
            <a:ext cx="28958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ponsive        Class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781680" y="6534000"/>
            <a:ext cx="1905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288D-5E05-42D5-B831-350E36250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53400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473520"/>
            <a:ext cx="28958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ponsive        Class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781680" y="6534000"/>
            <a:ext cx="1905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C515-893D-4ACD-93F0-8A3116610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800" y="653400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473520"/>
            <a:ext cx="28958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ponsive        Class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781680" y="6534000"/>
            <a:ext cx="1905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D5AE-7AEA-4016-8554-90CC697F5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685800" y="653400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473520"/>
            <a:ext cx="28958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ponsive        Class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781680" y="6534000"/>
            <a:ext cx="1905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6712-27F4-477B-BDB8-AC4ED3024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685800" y="653400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473520"/>
            <a:ext cx="28958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ponsive        Class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781680" y="6534000"/>
            <a:ext cx="1905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F123-02D3-45A1-B20D-F730362E3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685800" y="653400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473520"/>
            <a:ext cx="28958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ponsive        Class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781680" y="6534000"/>
            <a:ext cx="1905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9DB1-BBDB-4CC0-ACFD-74C2CCA66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Arial"/>
              </a:rPr>
              <a:t>Responsive Classroom 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Approach</a:t>
            </a:r>
            <a:endParaRPr b="0" lang="en-US" sz="40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4114800" y="617220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33"/>
                </a:solidFill>
                <a:latin typeface="Arial"/>
                <a:ea typeface="Arial"/>
              </a:rPr>
              <a:t>Responsive Classroom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Arial"/>
              </a:rPr>
              <a:t> Sampler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Arial"/>
              </a:rPr>
              <a:t>Presented by: Andrew Moral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06" name="Picture 4" descr=""/>
          <p:cNvPicPr/>
          <p:nvPr/>
        </p:nvPicPr>
        <p:blipFill>
          <a:blip r:embed="rId1"/>
          <a:stretch/>
        </p:blipFill>
        <p:spPr>
          <a:xfrm>
            <a:off x="1295280" y="3178080"/>
            <a:ext cx="386712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Footer Placeholder 5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Teaching Practices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orning Meeting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reating Rule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Interactive Modeling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eacher Languag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Logical Consequence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losing Circle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Guided Discovery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Academic Choic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lassroom Organizat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orking with Familie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ollaborative Problem-Solving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Oliver Twist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10123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Oliver twist, twist, twist (hands on hip and twist body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Can’t do this, this, this (Tap right foot and shake forefinger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ouch his head, head, head (Touch head with hands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ouch his nose, nose, nose (Touch nose with hands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ouch his ears, ears, ears (Touch ears with hands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ouch his toes, toes, toes (Touch toes with hands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3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22b7a"/>
                </a:solidFill>
                <a:latin typeface="Arial"/>
              </a:rPr>
              <a:t>Characteristics of </a:t>
            </a:r>
            <a:br>
              <a:rPr sz="4000"/>
            </a:br>
            <a:r>
              <a:rPr b="0" lang="en-US" sz="4000" spc="-1" strike="noStrike">
                <a:solidFill>
                  <a:srgbClr val="122b7a"/>
                </a:solidFill>
                <a:latin typeface="Arial"/>
              </a:rPr>
              <a:t>Teacher Language</a:t>
            </a:r>
            <a:endParaRPr b="0" lang="en-US" sz="40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ear, simple, direc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Genuine and respectfu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pecific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cused on actions, not character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Descriptive—Avoids personal judgmen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hows faith in children’s abilities &amp; potentia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22b7a"/>
                </a:solidFill>
                <a:latin typeface="Arial"/>
              </a:rPr>
              <a:t>Common Reinforcing Language Pitfalls</a:t>
            </a:r>
            <a:endParaRPr b="0" lang="en-US" sz="40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Voice-overs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Overly sentimental talk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Naming individuals as examples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Describing behaviors that aren’t yet occurring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22b7a"/>
                </a:solidFill>
                <a:latin typeface="Arial"/>
              </a:rPr>
              <a:t>Common Reminding Language Pitfalls</a:t>
            </a:r>
            <a:endParaRPr b="0" lang="en-US" sz="40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arcasm or Teasing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anking or Praising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Not watching for Follow-Through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Three R’s of Teacher Language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228600" y="1600200"/>
          <a:ext cx="8686800" cy="4516560"/>
        </p:xfrm>
        <a:graphic>
          <a:graphicData uri="http://schemas.openxmlformats.org/drawingml/2006/table">
            <a:tbl>
              <a:tblPr/>
              <a:tblGrid>
                <a:gridCol w="2011320"/>
                <a:gridCol w="2332080"/>
                <a:gridCol w="2171880"/>
                <a:gridCol w="2171520"/>
              </a:tblGrid>
              <a:tr h="79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Reinforcing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Reminding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Redirecting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93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When to use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Teacher notices positive effort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1c1c1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Before activity begins 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1c1c1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First sign of misbehavior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Students clearly off-course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83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Examples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I notice…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I see that…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How will you…?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Remind us…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It’s time to…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You need to…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8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3 R’s of Teacher Language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pic>
        <p:nvPicPr>
          <p:cNvPr id="550" name="Content Placeholder 4" descr=""/>
          <p:cNvPicPr/>
          <p:nvPr/>
        </p:nvPicPr>
        <p:blipFill>
          <a:blip r:embed="rId1"/>
          <a:stretch/>
        </p:blipFill>
        <p:spPr>
          <a:xfrm>
            <a:off x="733320" y="1600200"/>
            <a:ext cx="7677360" cy="4525920"/>
          </a:xfrm>
          <a:prstGeom prst="rect">
            <a:avLst/>
          </a:prstGeom>
          <a:ln w="0">
            <a:noFill/>
          </a:ln>
        </p:spPr>
      </p:pic>
      <p:sp>
        <p:nvSpPr>
          <p:cNvPr id="551" name="Footer Placeholder 3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22b7a"/>
                </a:solidFill>
                <a:latin typeface="Arial"/>
              </a:rPr>
              <a:t>Strategies that can Help in Language Change</a:t>
            </a:r>
            <a:endParaRPr b="0" lang="en-US" sz="40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Listen to yourself (or have a colleague/students listen for something)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Post replacement words/phrases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cus on one phrase at a time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- Keep it simple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22b7a"/>
                </a:solidFill>
                <a:latin typeface="Arial"/>
              </a:rPr>
              <a:t>Teacher Language Resources</a:t>
            </a:r>
            <a:endParaRPr b="0" lang="en-US" sz="40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c1c1c"/>
                </a:solidFill>
                <a:latin typeface="Arial"/>
              </a:rPr>
              <a:t>The Power of Our Words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eacher Language Sheets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Word Cards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eacher Language Self-Reflection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What is Interactive Modeling?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echnique for teaching procedures, skills, and routines that the teacher expects to be done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one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, and only one way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hows students exactly how to do what we expect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tive learning that includes: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Modeli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Observi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Responding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Coachi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Goals for today’s workshop: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Become familiar with the </a:t>
            </a:r>
            <a:r>
              <a:rPr b="0" i="1" lang="en-US" sz="2800" spc="-1" strike="noStrike">
                <a:solidFill>
                  <a:srgbClr val="1c1c1c"/>
                </a:solidFill>
                <a:latin typeface="Arial"/>
              </a:rPr>
              <a:t>RC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 approach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Develop understanding of proactive discipline strategies: Teacher Language, Interactive Modeling, and Morning Meeting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Identify resources to further develop understanding of </a:t>
            </a:r>
            <a:r>
              <a:rPr b="0" i="1" lang="en-US" sz="2800" spc="-1" strike="noStrike">
                <a:solidFill>
                  <a:srgbClr val="1c1c1c"/>
                </a:solidFill>
                <a:latin typeface="Arial"/>
              </a:rPr>
              <a:t>RC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 approach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Research that supports Interactive Modeling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E. Jensen (2005): 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Recommends that teachers actively engage students, provide them, with interesting practice or repetition to learn skill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A. Bandura (1977):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upports the idea that humans (and children) develop behaviors when they pay attention to a model, can retain and imitate what they see, and receive feedback about their behavior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R.J. Marzano (2007):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ummarizes research on effective teaching practices, including the power of stopping during demonstrations to ask students for their observations or when practicing a procedural skil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Why Interactive Modeling Works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tudents learn why the routine or skill is important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tudents create a clear image of what’s expected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tudents do the noticing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tudents have the chance to practice and gain expertise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tudents receive immediate feedback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Interactive Modeling can be used to teach: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outin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ransition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uppli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ademic Skill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ocial Skill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9" name="Footer Placeholder 3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Steps for Interactive Modeling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Describe a positive behavior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Demonstrate the behavior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sk students what they noticed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Volunteers demonstrate the behavior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epeat step 3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tudents practice—teacher observes &amp; coaches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Provide Feedback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Video Clips of I.M. Lessons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How to choose a partner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How to go to timeout 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How to sit in a circle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How to use scissors safely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5" name="Footer Placeholder 3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Possible I.M. Lessons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Classroom Routines- 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Responding to signal for quiet, where/how to sit, showing what active listening looks like, signaling a desire to speak during a discussion, chatting with a partner, what to do if you need help, independent work time routin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ransitions-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Putting/taking materials away/out, reading/interacting with the Morning Message, handling homework, signing up for lunch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Working with supplies: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Math manipulatives, </a:t>
            </a:r>
            <a:r>
              <a:rPr b="0" i="1" lang="en-US" sz="1600" spc="-1" strike="noStrike">
                <a:solidFill>
                  <a:srgbClr val="333333"/>
                </a:solidFill>
                <a:latin typeface="Arial"/>
              </a:rPr>
              <a:t>Journeys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small group readers, colored pencils, scissors, etc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Academic/Social Skills-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Ask questions, partner chat, head one’s paper, fill out/check an answer, take notes, etc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ee the book </a:t>
            </a:r>
            <a:r>
              <a:rPr b="0" i="1" lang="en-US" sz="2000" spc="-1" strike="noStrike">
                <a:solidFill>
                  <a:srgbClr val="1c1c1c"/>
                </a:solidFill>
                <a:latin typeface="Arial"/>
              </a:rPr>
              <a:t>Interactive Modeling: A Powerful Technique for Teaching Children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      by: Margaret Wilson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8" name="Footer Placeholder 3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Planning Guide for </a:t>
            </a:r>
            <a:br>
              <a:rPr sz="4400"/>
            </a:b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Interactive Modeling Lessons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onsider: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hy is this behavior or skill important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hat’s the learning goal for students- what do you want them to be able to do as a result of the lesson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ow will you introduce the lesson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hat exactly will you model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hat details do you want students to notice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ow will you coach students as they practice?  What things might go wrong and how will you respond if they do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hat materials or additional support (if any) do you need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ow will you follow up with this lesson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Interactive Modeling Planning Shee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1" name="Footer Placeholder 3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My Bonny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My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nny lies over the ocean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My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nny lies over the sea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My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nny lies over the ocean,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o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ing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k my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nny to me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ing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k,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ing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k,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h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ing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k my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nny to me, to me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ing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k,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ing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k,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h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ing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k my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nny to me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osing Circle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What is something you learned tonight that you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want to take back to your own classroom?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22b7a"/>
                </a:solidFill>
                <a:latin typeface="Arial"/>
              </a:rPr>
              <a:t>Responsive Classroom</a:t>
            </a:r>
            <a:br>
              <a:rPr sz="4400"/>
            </a:b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enter for Responsive Schools Websit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c1c1c"/>
                </a:solidFill>
                <a:latin typeface="Arial"/>
              </a:rPr>
              <a:t>Responsive Classroom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 Youtube Chann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ndrew Moral: amoral@crsd.org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Morning Meeting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Introduction to </a:t>
            </a:r>
            <a:r>
              <a:rPr b="0" i="1" lang="en-US" sz="1800" spc="-1" strike="noStrike">
                <a:solidFill>
                  <a:srgbClr val="1c1c1c"/>
                </a:solidFill>
                <a:latin typeface="Arial"/>
              </a:rPr>
              <a:t>Responsive Classroom 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approach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7 Guiding Principles of </a:t>
            </a:r>
            <a:r>
              <a:rPr b="0" i="1" lang="en-US" sz="1800" spc="-1" strike="noStrike">
                <a:solidFill>
                  <a:srgbClr val="1c1c1c"/>
                </a:solidFill>
                <a:latin typeface="Arial"/>
              </a:rPr>
              <a:t>RC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hree R’s Teacher Languag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Interactive Modeling demonstration &amp; application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Closing Circl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Morning Meeting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166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Greeting: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Just Like Me!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haring: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 favorite movie…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Activity: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ands up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Hands Up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Hands up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For 2013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Gonna name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ome _____ / /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(Categories such as rivers, states, animals, etc.)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One apiece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No repeats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No hesitation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No duplication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tarting with ____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_________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Message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0" y="116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Dear Teachers,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I am excited to join you this evening and look at some </a:t>
            </a:r>
            <a:r>
              <a:rPr b="0" i="1" lang="en-US" sz="2400" spc="-1" strike="noStrike">
                <a:solidFill>
                  <a:srgbClr val="1c1c1c"/>
                </a:solidFill>
                <a:latin typeface="Arial"/>
              </a:rPr>
              <a:t>Responsive Classroom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practices with you.  What is one </a:t>
            </a:r>
            <a:r>
              <a:rPr b="0" i="1" lang="en-US" sz="2400" spc="-1" strike="noStrike">
                <a:solidFill>
                  <a:srgbClr val="1c1c1c"/>
                </a:solidFill>
                <a:latin typeface="Arial"/>
              </a:rPr>
              <a:t>RC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practice you have heard about or currently use in your teaching practice?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I hope you leave tonight with some ideas you can implement right away in your teaching assignment!  Let’s have a great evening together!!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- Andy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Introduction to </a:t>
            </a:r>
            <a:br>
              <a:rPr sz="4400"/>
            </a:br>
            <a:r>
              <a:rPr b="0" i="1" lang="en-US" sz="4400" spc="-1" strike="noStrike">
                <a:solidFill>
                  <a:srgbClr val="122b7a"/>
                </a:solidFill>
                <a:latin typeface="Arial"/>
              </a:rPr>
              <a:t>Responsive Classroom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* What is the </a:t>
            </a:r>
            <a:r>
              <a:rPr b="0" i="1" lang="en-US" sz="2400" spc="-1" strike="noStrike">
                <a:solidFill>
                  <a:srgbClr val="1c1c1c"/>
                </a:solidFill>
                <a:latin typeface="Arial"/>
              </a:rPr>
              <a:t>Responsive Classroom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approach? 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(9 minutes)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* What does it look like in a school?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(12 minutes)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professional development services are available?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(5 minutes)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Guiding Principles of </a:t>
            </a:r>
            <a:r>
              <a:rPr b="0" i="1" lang="en-US" sz="4400" spc="-1" strike="noStrike">
                <a:solidFill>
                  <a:srgbClr val="122b7a"/>
                </a:solidFill>
                <a:latin typeface="Arial"/>
              </a:rPr>
              <a:t>RC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ocial curriculum = academic curriculum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How children learn = what they lear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Greatest cognitive growth occurs through social interact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ARE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Knowing the children = knowing the conten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Knowing families is essential to children’s educat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How adults work together = individual competenc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oter Placeholder 1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29" name="Picture 2" descr=""/>
          <p:cNvPicPr/>
          <p:nvPr/>
        </p:nvPicPr>
        <p:blipFill>
          <a:blip r:embed="rId1"/>
          <a:stretch/>
        </p:blipFill>
        <p:spPr>
          <a:xfrm>
            <a:off x="1541520" y="228600"/>
            <a:ext cx="606096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8:35:13Z</dcterms:created>
  <dc:creator>lynn</dc:creator>
  <dc:description/>
  <dc:language>en-US</dc:language>
  <cp:lastModifiedBy>Moral, Andrew</cp:lastModifiedBy>
  <cp:lastPrinted>2015-03-12T17:58:50Z</cp:lastPrinted>
  <dcterms:modified xsi:type="dcterms:W3CDTF">2015-03-12T18:17:05Z</dcterms:modified>
  <cp:revision>55</cp:revision>
  <dc:subject/>
  <dc:title>Responsive Classroom</dc:title>
</cp:coreProperties>
</file>